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16.wmf" ContentType="image/x-wmf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yeaahh!.wav" ContentType="audio/x-wav"/>
  <Override PartName="/ppt/media/image39.wmf" ContentType="image/x-wmf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wmf" ContentType="image/x-wmf"/>
  <Override PartName="/ppt/media/image46.png" ContentType="image/png"/>
  <Override PartName="/ppt/media/image11.png" ContentType="image/png"/>
  <Override PartName="/ppt/media/image44.wmf" ContentType="image/x-wmf"/>
  <Override PartName="/ppt/media/image45.png" ContentType="image/png"/>
  <Override PartName="/ppt/media/image10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128-6401-400D-BD37-49CC1F0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663-7AF0-43C2-B500-D53A23DE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257-E6B2-4375-9352-EF717293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E4A-4544-46CC-9DD1-FDCD86DE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C3F-EBA2-4AD3-AA9F-5CD410DA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782-B4CD-4C6B-9531-32353EF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9A5-483E-4D62-AAC8-5A569016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5FA-0E2C-41FE-AA08-251BE01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08C-01C9-45BB-9D0D-E300233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194-A484-4C82-A887-4972B31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2A1-84FB-4481-873D-1F98DDD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C80-C41B-496C-8136-3FA7A56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3ADA-EE97-4A65-B9A8-1067477D4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audio" Target="../media/yeaahh!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914400"/>
            <a:ext cx="5791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rs Around U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rainbow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46716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art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23623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572000" y="2895480"/>
            <a:ext cx="3876840" cy="2579760"/>
            <a:chOff x="4572000" y="2895480"/>
            <a:chExt cx="3876840" cy="2579760"/>
          </a:xfrm>
        </p:grpSpPr>
        <p:sp>
          <p:nvSpPr>
            <p:cNvPr id="45" name=""/>
            <p:cNvSpPr/>
            <p:nvPr/>
          </p:nvSpPr>
          <p:spPr>
            <a:xfrm>
              <a:off x="4572000" y="2895480"/>
              <a:ext cx="961920" cy="263520"/>
            </a:xfrm>
            <a:custGeom>
              <a:avLst/>
              <a:gdLst/>
              <a:ahLst/>
              <a:rect l="l" t="t" r="r" b="b"/>
              <a:pathLst>
                <a:path w="606" h="166">
                  <a:moveTo>
                    <a:pt x="601" y="65"/>
                  </a:moveTo>
                  <a:cubicBezTo>
                    <a:pt x="486" y="27"/>
                    <a:pt x="381" y="13"/>
                    <a:pt x="260" y="0"/>
                  </a:cubicBezTo>
                  <a:cubicBezTo>
                    <a:pt x="133" y="17"/>
                    <a:pt x="116" y="15"/>
                    <a:pt x="33" y="98"/>
                  </a:cubicBezTo>
                  <a:cubicBezTo>
                    <a:pt x="28" y="114"/>
                    <a:pt x="0" y="143"/>
                    <a:pt x="17" y="146"/>
                  </a:cubicBezTo>
                  <a:cubicBezTo>
                    <a:pt x="128" y="166"/>
                    <a:pt x="277" y="110"/>
                    <a:pt x="390" y="98"/>
                  </a:cubicBezTo>
                  <a:cubicBezTo>
                    <a:pt x="606" y="76"/>
                    <a:pt x="601" y="152"/>
                    <a:pt x="601" y="65"/>
                  </a:cubicBez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4120" y="4114800"/>
              <a:ext cx="349200" cy="696960"/>
            </a:xfrm>
            <a:custGeom>
              <a:avLst/>
              <a:gdLst/>
              <a:ahLst/>
              <a:rect l="l" t="t" r="r" b="b"/>
              <a:pathLst>
                <a:path w="220" h="439">
                  <a:moveTo>
                    <a:pt x="189" y="0"/>
                  </a:moveTo>
                  <a:cubicBezTo>
                    <a:pt x="127" y="91"/>
                    <a:pt x="47" y="169"/>
                    <a:pt x="10" y="275"/>
                  </a:cubicBezTo>
                  <a:cubicBezTo>
                    <a:pt x="16" y="313"/>
                    <a:pt x="0" y="362"/>
                    <a:pt x="27" y="389"/>
                  </a:cubicBezTo>
                  <a:cubicBezTo>
                    <a:pt x="77" y="439"/>
                    <a:pt x="129" y="347"/>
                    <a:pt x="140" y="324"/>
                  </a:cubicBezTo>
                  <a:cubicBezTo>
                    <a:pt x="161" y="282"/>
                    <a:pt x="164" y="219"/>
                    <a:pt x="173" y="178"/>
                  </a:cubicBezTo>
                  <a:cubicBezTo>
                    <a:pt x="187" y="116"/>
                    <a:pt x="220" y="62"/>
                    <a:pt x="189" y="0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00800" y="4800600"/>
              <a:ext cx="2048040" cy="674640"/>
            </a:xfrm>
            <a:custGeom>
              <a:avLst/>
              <a:gdLst/>
              <a:ahLst/>
              <a:rect l="l" t="t" r="r" b="b"/>
              <a:pathLst>
                <a:path w="1290" h="425">
                  <a:moveTo>
                    <a:pt x="406" y="81"/>
                  </a:moveTo>
                  <a:cubicBezTo>
                    <a:pt x="293" y="93"/>
                    <a:pt x="189" y="111"/>
                    <a:pt x="81" y="146"/>
                  </a:cubicBezTo>
                  <a:cubicBezTo>
                    <a:pt x="65" y="162"/>
                    <a:pt x="44" y="175"/>
                    <a:pt x="33" y="195"/>
                  </a:cubicBezTo>
                  <a:cubicBezTo>
                    <a:pt x="16" y="225"/>
                    <a:pt x="0" y="292"/>
                    <a:pt x="0" y="292"/>
                  </a:cubicBezTo>
                  <a:cubicBezTo>
                    <a:pt x="115" y="330"/>
                    <a:pt x="223" y="295"/>
                    <a:pt x="325" y="243"/>
                  </a:cubicBezTo>
                  <a:cubicBezTo>
                    <a:pt x="336" y="254"/>
                    <a:pt x="355" y="261"/>
                    <a:pt x="357" y="276"/>
                  </a:cubicBezTo>
                  <a:cubicBezTo>
                    <a:pt x="361" y="309"/>
                    <a:pt x="341" y="340"/>
                    <a:pt x="341" y="373"/>
                  </a:cubicBezTo>
                  <a:cubicBezTo>
                    <a:pt x="341" y="390"/>
                    <a:pt x="352" y="406"/>
                    <a:pt x="357" y="422"/>
                  </a:cubicBezTo>
                  <a:cubicBezTo>
                    <a:pt x="447" y="407"/>
                    <a:pt x="523" y="392"/>
                    <a:pt x="600" y="341"/>
                  </a:cubicBezTo>
                  <a:cubicBezTo>
                    <a:pt x="622" y="346"/>
                    <a:pt x="645" y="347"/>
                    <a:pt x="665" y="357"/>
                  </a:cubicBezTo>
                  <a:cubicBezTo>
                    <a:pt x="679" y="364"/>
                    <a:pt x="685" y="381"/>
                    <a:pt x="698" y="389"/>
                  </a:cubicBezTo>
                  <a:cubicBezTo>
                    <a:pt x="713" y="398"/>
                    <a:pt x="730" y="400"/>
                    <a:pt x="746" y="406"/>
                  </a:cubicBezTo>
                  <a:cubicBezTo>
                    <a:pt x="800" y="400"/>
                    <a:pt x="855" y="397"/>
                    <a:pt x="909" y="389"/>
                  </a:cubicBezTo>
                  <a:cubicBezTo>
                    <a:pt x="926" y="386"/>
                    <a:pt x="940" y="370"/>
                    <a:pt x="957" y="373"/>
                  </a:cubicBezTo>
                  <a:cubicBezTo>
                    <a:pt x="981" y="377"/>
                    <a:pt x="999" y="397"/>
                    <a:pt x="1022" y="406"/>
                  </a:cubicBezTo>
                  <a:cubicBezTo>
                    <a:pt x="1043" y="414"/>
                    <a:pt x="1065" y="417"/>
                    <a:pt x="1087" y="422"/>
                  </a:cubicBezTo>
                  <a:cubicBezTo>
                    <a:pt x="1146" y="417"/>
                    <a:pt x="1208" y="425"/>
                    <a:pt x="1265" y="406"/>
                  </a:cubicBezTo>
                  <a:cubicBezTo>
                    <a:pt x="1290" y="398"/>
                    <a:pt x="1286" y="312"/>
                    <a:pt x="1265" y="276"/>
                  </a:cubicBezTo>
                  <a:cubicBezTo>
                    <a:pt x="1226" y="207"/>
                    <a:pt x="1077" y="202"/>
                    <a:pt x="1022" y="195"/>
                  </a:cubicBezTo>
                  <a:cubicBezTo>
                    <a:pt x="1063" y="154"/>
                    <a:pt x="1097" y="132"/>
                    <a:pt x="1152" y="114"/>
                  </a:cubicBezTo>
                  <a:cubicBezTo>
                    <a:pt x="1163" y="103"/>
                    <a:pt x="1188" y="96"/>
                    <a:pt x="1184" y="81"/>
                  </a:cubicBezTo>
                  <a:cubicBezTo>
                    <a:pt x="1179" y="62"/>
                    <a:pt x="1155" y="50"/>
                    <a:pt x="1136" y="49"/>
                  </a:cubicBezTo>
                  <a:cubicBezTo>
                    <a:pt x="1076" y="45"/>
                    <a:pt x="1017" y="60"/>
                    <a:pt x="957" y="65"/>
                  </a:cubicBezTo>
                  <a:cubicBezTo>
                    <a:pt x="910" y="81"/>
                    <a:pt x="858" y="81"/>
                    <a:pt x="811" y="97"/>
                  </a:cubicBezTo>
                  <a:cubicBezTo>
                    <a:pt x="793" y="103"/>
                    <a:pt x="781" y="123"/>
                    <a:pt x="763" y="130"/>
                  </a:cubicBezTo>
                  <a:cubicBezTo>
                    <a:pt x="737" y="140"/>
                    <a:pt x="709" y="141"/>
                    <a:pt x="682" y="146"/>
                  </a:cubicBezTo>
                  <a:cubicBezTo>
                    <a:pt x="660" y="141"/>
                    <a:pt x="627" y="150"/>
                    <a:pt x="617" y="130"/>
                  </a:cubicBezTo>
                  <a:cubicBezTo>
                    <a:pt x="605" y="105"/>
                    <a:pt x="633" y="77"/>
                    <a:pt x="633" y="49"/>
                  </a:cubicBezTo>
                  <a:cubicBezTo>
                    <a:pt x="633" y="32"/>
                    <a:pt x="622" y="16"/>
                    <a:pt x="617" y="0"/>
                  </a:cubicBezTo>
                  <a:cubicBezTo>
                    <a:pt x="600" y="1"/>
                    <a:pt x="444" y="1"/>
                    <a:pt x="390" y="33"/>
                  </a:cubicBezTo>
                  <a:cubicBezTo>
                    <a:pt x="388" y="34"/>
                    <a:pt x="308" y="109"/>
                    <a:pt x="325" y="114"/>
                  </a:cubicBezTo>
                  <a:cubicBezTo>
                    <a:pt x="353" y="123"/>
                    <a:pt x="379" y="92"/>
                    <a:pt x="406" y="81"/>
                  </a:cubicBez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282760" y="5410080"/>
            <a:ext cx="5161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Learn the Basic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 by Connie Campb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920" y="1066680"/>
            <a:ext cx="6476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blue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mailbox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1555920" cy="1814400"/>
          </a:xfrm>
          <a:prstGeom prst="rect">
            <a:avLst/>
          </a:prstGeom>
          <a:ln w="0">
            <a:noFill/>
          </a:ln>
        </p:spPr>
      </p:pic>
      <p:pic>
        <p:nvPicPr>
          <p:cNvPr id="128" name="dino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2046240" cy="1646280"/>
          </a:xfrm>
          <a:prstGeom prst="rect">
            <a:avLst/>
          </a:prstGeom>
          <a:ln w="0">
            <a:noFill/>
          </a:ln>
        </p:spPr>
      </p:pic>
      <p:pic>
        <p:nvPicPr>
          <p:cNvPr id="129" name="bumblebee" descr=""/>
          <p:cNvPicPr/>
          <p:nvPr/>
        </p:nvPicPr>
        <p:blipFill>
          <a:blip r:embed="rId3"/>
          <a:stretch/>
        </p:blipFill>
        <p:spPr>
          <a:xfrm>
            <a:off x="1981080" y="2133720"/>
            <a:ext cx="2378160" cy="2000160"/>
          </a:xfrm>
          <a:prstGeom prst="rect">
            <a:avLst/>
          </a:prstGeom>
          <a:ln w="0">
            <a:noFill/>
          </a:ln>
        </p:spPr>
      </p:pic>
      <p:pic>
        <p:nvPicPr>
          <p:cNvPr id="130" name="copper-dragon" descr=""/>
          <p:cNvPicPr/>
          <p:nvPr/>
        </p:nvPicPr>
        <p:blipFill>
          <a:blip r:embed="rId4"/>
          <a:stretch/>
        </p:blipFill>
        <p:spPr>
          <a:xfrm>
            <a:off x="4343400" y="4191120"/>
            <a:ext cx="2149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828800" y="1066680"/>
            <a:ext cx="6324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yellow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excellentx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banbunch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1235160" cy="949320"/>
          </a:xfrm>
          <a:prstGeom prst="rect">
            <a:avLst/>
          </a:prstGeom>
          <a:ln w="0">
            <a:noFill/>
          </a:ln>
        </p:spPr>
      </p:pic>
      <p:pic>
        <p:nvPicPr>
          <p:cNvPr id="137" name="deer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219384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gator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43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480" y="1066680"/>
            <a:ext cx="533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green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lettuce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1335240" cy="1198800"/>
          </a:xfrm>
          <a:prstGeom prst="rect">
            <a:avLst/>
          </a:prstGeom>
          <a:ln w="0">
            <a:noFill/>
          </a:ln>
        </p:spPr>
      </p:pic>
      <p:pic>
        <p:nvPicPr>
          <p:cNvPr id="144" name="green-lizard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2425680" cy="1959120"/>
          </a:xfrm>
          <a:prstGeom prst="rect">
            <a:avLst/>
          </a:prstGeom>
          <a:ln w="0">
            <a:noFill/>
          </a:ln>
        </p:spPr>
      </p:pic>
      <p:pic>
        <p:nvPicPr>
          <p:cNvPr id="145" name="easterchick1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1339560" cy="2038320"/>
          </a:xfrm>
          <a:prstGeom prst="rect">
            <a:avLst/>
          </a:prstGeom>
          <a:ln w="0">
            <a:noFill/>
          </a:ln>
        </p:spPr>
      </p:pic>
      <p:pic>
        <p:nvPicPr>
          <p:cNvPr id="146" name="hearts" descr=""/>
          <p:cNvPicPr/>
          <p:nvPr/>
        </p:nvPicPr>
        <p:blipFill>
          <a:blip r:embed="rId4"/>
          <a:stretch/>
        </p:blipFill>
        <p:spPr>
          <a:xfrm>
            <a:off x="1981080" y="4191120"/>
            <a:ext cx="11430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47920" y="990720"/>
            <a:ext cx="6400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purple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urplrib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769680" cy="1233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19320" y="2514600"/>
            <a:ext cx="914400" cy="1447920"/>
          </a:xfrm>
          <a:prstGeom prst="can">
            <a:avLst>
              <a:gd name="adj" fmla="val 25000"/>
            </a:avLst>
          </a:prstGeom>
          <a:solidFill>
            <a:srgbClr val="99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d05474_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1587240" cy="2409840"/>
          </a:xfrm>
          <a:prstGeom prst="rect">
            <a:avLst/>
          </a:prstGeom>
          <a:ln w="0">
            <a:noFill/>
          </a:ln>
        </p:spPr>
      </p:pic>
      <p:pic>
        <p:nvPicPr>
          <p:cNvPr id="154" name="bd00122_" descr=""/>
          <p:cNvPicPr/>
          <p:nvPr/>
        </p:nvPicPr>
        <p:blipFill>
          <a:blip r:embed="rId3"/>
          <a:stretch/>
        </p:blipFill>
        <p:spPr>
          <a:xfrm>
            <a:off x="2743200" y="3352680"/>
            <a:ext cx="148752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066680"/>
            <a:ext cx="6705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orange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crayon1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28680" cy="2886120"/>
          </a:xfrm>
          <a:prstGeom prst="rect">
            <a:avLst/>
          </a:prstGeom>
          <a:ln w="0">
            <a:noFill/>
          </a:ln>
        </p:spPr>
      </p:pic>
      <p:pic>
        <p:nvPicPr>
          <p:cNvPr id="160" name="kitten2" descr=""/>
          <p:cNvPicPr/>
          <p:nvPr/>
        </p:nvPicPr>
        <p:blipFill>
          <a:blip r:embed="rId2"/>
          <a:stretch/>
        </p:blipFill>
        <p:spPr>
          <a:xfrm>
            <a:off x="5562720" y="2743200"/>
            <a:ext cx="243504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an00015_" descr=""/>
          <p:cNvPicPr/>
          <p:nvPr/>
        </p:nvPicPr>
        <p:blipFill>
          <a:blip r:embed="rId3"/>
          <a:stretch/>
        </p:blipFill>
        <p:spPr>
          <a:xfrm>
            <a:off x="990720" y="2286000"/>
            <a:ext cx="2827080" cy="1852560"/>
          </a:xfrm>
          <a:prstGeom prst="rect">
            <a:avLst/>
          </a:prstGeom>
          <a:ln w="0">
            <a:noFill/>
          </a:ln>
        </p:spPr>
      </p:pic>
      <p:pic>
        <p:nvPicPr>
          <p:cNvPr id="162" name="bd04927_" descr=""/>
          <p:cNvPicPr/>
          <p:nvPr/>
        </p:nvPicPr>
        <p:blipFill>
          <a:blip r:embed="rId4"/>
          <a:stretch/>
        </p:blipFill>
        <p:spPr>
          <a:xfrm>
            <a:off x="1143000" y="4876920"/>
            <a:ext cx="12193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95280" y="1066680"/>
            <a:ext cx="6858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od job!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are a color graduate.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crayons1x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847880" cy="1923840"/>
          </a:xfrm>
          <a:prstGeom prst="rect">
            <a:avLst/>
          </a:prstGeom>
          <a:ln w="0">
            <a:noFill/>
          </a:ln>
        </p:spPr>
      </p:pic>
      <p:pic>
        <p:nvPicPr>
          <p:cNvPr id="168" name="cap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982440" cy="1211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yeaahh!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d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898720" y="342900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xsock1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12589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Vheart1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vega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504960" cy="1484280"/>
          </a:xfrm>
          <a:prstGeom prst="rect">
            <a:avLst/>
          </a:prstGeom>
          <a:ln w="0">
            <a:noFill/>
          </a:ln>
        </p:spPr>
      </p:pic>
      <p:pic>
        <p:nvPicPr>
          <p:cNvPr id="57" name="coke" descr=""/>
          <p:cNvPicPr/>
          <p:nvPr/>
        </p:nvPicPr>
        <p:blipFill>
          <a:blip r:embed="rId4"/>
          <a:stretch/>
        </p:blipFill>
        <p:spPr>
          <a:xfrm>
            <a:off x="6629400" y="1219320"/>
            <a:ext cx="6951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u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2899080" y="3429000"/>
            <a:ext cx="41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b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kingfish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1905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blueribbonx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65" name="blueball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handicp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9144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llow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2441880" y="266688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ye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lily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24128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light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easterbasket2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1931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2899080" y="342900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gre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ar" descr=""/>
          <p:cNvPicPr/>
          <p:nvPr/>
        </p:nvPicPr>
        <p:blipFill>
          <a:blip r:embed="rId1"/>
          <a:stretch/>
        </p:blipFill>
        <p:spPr>
          <a:xfrm>
            <a:off x="-2209680" y="4343400"/>
            <a:ext cx="2209680" cy="1317600"/>
          </a:xfrm>
          <a:prstGeom prst="rect">
            <a:avLst/>
          </a:prstGeom>
          <a:ln w="0">
            <a:noFill/>
          </a:ln>
        </p:spPr>
      </p:pic>
      <p:pic>
        <p:nvPicPr>
          <p:cNvPr id="81" name="animated-frog-2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82" name="na01441_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rpl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2899080" y="3429000"/>
            <a:ext cx="45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pur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Iri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1676160" cy="1528920"/>
          </a:xfrm>
          <a:prstGeom prst="rect">
            <a:avLst/>
          </a:prstGeom>
          <a:ln w="0">
            <a:noFill/>
          </a:ln>
        </p:spPr>
      </p:pic>
      <p:pic>
        <p:nvPicPr>
          <p:cNvPr id="89" name="Pinklady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14526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477120" y="22096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ang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899080" y="342900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o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umki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1752480" cy="1339560"/>
          </a:xfrm>
          <a:prstGeom prst="rect">
            <a:avLst/>
          </a:prstGeom>
          <a:ln w="0">
            <a:noFill/>
          </a:ln>
        </p:spPr>
      </p:pic>
      <p:pic>
        <p:nvPicPr>
          <p:cNvPr id="97" name="hen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1600200" cy="190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4800600"/>
            <a:ext cx="1905120" cy="990720"/>
          </a:xfrm>
          <a:prstGeom prst="rightArrow">
            <a:avLst>
              <a:gd name="adj1" fmla="val 50000"/>
              <a:gd name="adj2" fmla="val 4807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33520"/>
            <a:ext cx="7696080" cy="57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the pen to mat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 to the col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5280" y="1066680"/>
            <a:ext cx="6858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n you spot the color?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324480" y="4114800"/>
            <a:ext cx="1535040" cy="933480"/>
            <a:chOff x="6324480" y="4114800"/>
            <a:chExt cx="1535040" cy="933480"/>
          </a:xfrm>
        </p:grpSpPr>
        <p:sp>
          <p:nvSpPr>
            <p:cNvPr id="104" name=""/>
            <p:cNvSpPr/>
            <p:nvPr/>
          </p:nvSpPr>
          <p:spPr>
            <a:xfrm>
              <a:off x="7620120" y="419112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0"/>
                  </a:moveTo>
                  <a:cubicBezTo>
                    <a:pt x="37" y="25"/>
                    <a:pt x="24" y="38"/>
                    <a:pt x="62" y="62"/>
                  </a:cubicBezTo>
                  <a:cubicBezTo>
                    <a:pt x="84" y="94"/>
                    <a:pt x="70" y="84"/>
                    <a:pt x="97" y="9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324480" y="4114800"/>
              <a:ext cx="1535040" cy="933480"/>
              <a:chOff x="6324480" y="4114800"/>
              <a:chExt cx="1535040" cy="9334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6513120" y="4168440"/>
                <a:ext cx="114300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6665760" y="4321080"/>
                <a:ext cx="114300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62600" y="4114800"/>
                <a:ext cx="196920" cy="225720"/>
              </a:xfrm>
              <a:custGeom>
                <a:avLst/>
                <a:gdLst/>
                <a:ahLst/>
                <a:rect l="l" t="t" r="r" b="b"/>
                <a:pathLst>
                  <a:path w="124" h="142">
                    <a:moveTo>
                      <a:pt x="0" y="44"/>
                    </a:moveTo>
                    <a:cubicBezTo>
                      <a:pt x="3" y="35"/>
                      <a:pt x="2" y="23"/>
                      <a:pt x="9" y="18"/>
                    </a:cubicBezTo>
                    <a:cubicBezTo>
                      <a:pt x="24" y="7"/>
                      <a:pt x="62" y="0"/>
                      <a:pt x="62" y="0"/>
                    </a:cubicBezTo>
                    <a:cubicBezTo>
                      <a:pt x="86" y="36"/>
                      <a:pt x="110" y="66"/>
                      <a:pt x="124" y="106"/>
                    </a:cubicBezTo>
                    <a:cubicBezTo>
                      <a:pt x="108" y="131"/>
                      <a:pt x="103" y="142"/>
                      <a:pt x="71" y="142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24480" y="4861080"/>
                <a:ext cx="377640" cy="187200"/>
              </a:xfrm>
              <a:custGeom>
                <a:avLst/>
                <a:gdLst/>
                <a:ahLst/>
                <a:rect l="l" t="t" r="r" b="b"/>
                <a:pathLst>
                  <a:path w="238" h="118">
                    <a:moveTo>
                      <a:pt x="116" y="0"/>
                    </a:moveTo>
                    <a:cubicBezTo>
                      <a:pt x="96" y="29"/>
                      <a:pt x="57" y="69"/>
                      <a:pt x="27" y="88"/>
                    </a:cubicBezTo>
                    <a:cubicBezTo>
                      <a:pt x="21" y="97"/>
                      <a:pt x="0" y="118"/>
                      <a:pt x="10" y="115"/>
                    </a:cubicBezTo>
                    <a:cubicBezTo>
                      <a:pt x="71" y="94"/>
                      <a:pt x="121" y="86"/>
                      <a:pt x="187" y="79"/>
                    </a:cubicBezTo>
                    <a:cubicBezTo>
                      <a:pt x="238" y="64"/>
                      <a:pt x="208" y="78"/>
                      <a:pt x="187" y="62"/>
                    </a:cubicBezTo>
                    <a:cubicBezTo>
                      <a:pt x="179" y="55"/>
                      <a:pt x="177" y="42"/>
                      <a:pt x="169" y="35"/>
                    </a:cubicBezTo>
                    <a:cubicBezTo>
                      <a:pt x="153" y="22"/>
                      <a:pt x="116" y="29"/>
                      <a:pt x="116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0" name="frog2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1382760" cy="2297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33720" y="4876920"/>
            <a:ext cx="1676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568760" y="4290840"/>
            <a:ext cx="1789200" cy="2067120"/>
          </a:xfrm>
          <a:custGeom>
            <a:avLst/>
            <a:gdLst/>
            <a:ahLst/>
            <a:rect l="l" t="t" r="r" b="b"/>
            <a:pathLst>
              <a:path w="1127" h="1302">
                <a:moveTo>
                  <a:pt x="1092" y="469"/>
                </a:moveTo>
                <a:cubicBezTo>
                  <a:pt x="1067" y="396"/>
                  <a:pt x="1084" y="432"/>
                  <a:pt x="1039" y="363"/>
                </a:cubicBezTo>
                <a:cubicBezTo>
                  <a:pt x="1034" y="355"/>
                  <a:pt x="1034" y="345"/>
                  <a:pt x="1030" y="337"/>
                </a:cubicBezTo>
                <a:cubicBezTo>
                  <a:pt x="996" y="277"/>
                  <a:pt x="946" y="197"/>
                  <a:pt x="888" y="159"/>
                </a:cubicBezTo>
                <a:cubicBezTo>
                  <a:pt x="853" y="108"/>
                  <a:pt x="746" y="43"/>
                  <a:pt x="684" y="17"/>
                </a:cubicBezTo>
                <a:cubicBezTo>
                  <a:pt x="667" y="10"/>
                  <a:pt x="594" y="1"/>
                  <a:pt x="587" y="0"/>
                </a:cubicBezTo>
                <a:cubicBezTo>
                  <a:pt x="531" y="3"/>
                  <a:pt x="474" y="4"/>
                  <a:pt x="418" y="9"/>
                </a:cubicBezTo>
                <a:cubicBezTo>
                  <a:pt x="353" y="15"/>
                  <a:pt x="276" y="50"/>
                  <a:pt x="215" y="71"/>
                </a:cubicBezTo>
                <a:cubicBezTo>
                  <a:pt x="173" y="85"/>
                  <a:pt x="144" y="127"/>
                  <a:pt x="108" y="150"/>
                </a:cubicBezTo>
                <a:cubicBezTo>
                  <a:pt x="43" y="250"/>
                  <a:pt x="97" y="168"/>
                  <a:pt x="55" y="230"/>
                </a:cubicBezTo>
                <a:cubicBezTo>
                  <a:pt x="49" y="239"/>
                  <a:pt x="37" y="257"/>
                  <a:pt x="37" y="257"/>
                </a:cubicBezTo>
                <a:cubicBezTo>
                  <a:pt x="0" y="379"/>
                  <a:pt x="8" y="638"/>
                  <a:pt x="91" y="762"/>
                </a:cubicBezTo>
                <a:cubicBezTo>
                  <a:pt x="105" y="808"/>
                  <a:pt x="94" y="782"/>
                  <a:pt x="135" y="842"/>
                </a:cubicBezTo>
                <a:cubicBezTo>
                  <a:pt x="141" y="851"/>
                  <a:pt x="153" y="868"/>
                  <a:pt x="153" y="868"/>
                </a:cubicBezTo>
                <a:cubicBezTo>
                  <a:pt x="159" y="886"/>
                  <a:pt x="160" y="906"/>
                  <a:pt x="170" y="921"/>
                </a:cubicBezTo>
                <a:cubicBezTo>
                  <a:pt x="176" y="930"/>
                  <a:pt x="184" y="938"/>
                  <a:pt x="188" y="948"/>
                </a:cubicBezTo>
                <a:cubicBezTo>
                  <a:pt x="191" y="954"/>
                  <a:pt x="216" y="1045"/>
                  <a:pt x="224" y="1054"/>
                </a:cubicBezTo>
                <a:cubicBezTo>
                  <a:pt x="272" y="1104"/>
                  <a:pt x="304" y="1161"/>
                  <a:pt x="356" y="1205"/>
                </a:cubicBezTo>
                <a:cubicBezTo>
                  <a:pt x="386" y="1230"/>
                  <a:pt x="392" y="1252"/>
                  <a:pt x="436" y="1267"/>
                </a:cubicBezTo>
                <a:cubicBezTo>
                  <a:pt x="483" y="1283"/>
                  <a:pt x="530" y="1293"/>
                  <a:pt x="578" y="1302"/>
                </a:cubicBezTo>
                <a:cubicBezTo>
                  <a:pt x="580" y="1302"/>
                  <a:pt x="684" y="1299"/>
                  <a:pt x="711" y="1285"/>
                </a:cubicBezTo>
                <a:cubicBezTo>
                  <a:pt x="730" y="1275"/>
                  <a:pt x="746" y="1261"/>
                  <a:pt x="764" y="1249"/>
                </a:cubicBezTo>
                <a:cubicBezTo>
                  <a:pt x="773" y="1243"/>
                  <a:pt x="791" y="1232"/>
                  <a:pt x="791" y="1232"/>
                </a:cubicBezTo>
                <a:cubicBezTo>
                  <a:pt x="832" y="1167"/>
                  <a:pt x="781" y="1240"/>
                  <a:pt x="835" y="1187"/>
                </a:cubicBezTo>
                <a:cubicBezTo>
                  <a:pt x="843" y="1180"/>
                  <a:pt x="845" y="1168"/>
                  <a:pt x="853" y="1161"/>
                </a:cubicBezTo>
                <a:cubicBezTo>
                  <a:pt x="869" y="1147"/>
                  <a:pt x="906" y="1125"/>
                  <a:pt x="906" y="1125"/>
                </a:cubicBezTo>
                <a:cubicBezTo>
                  <a:pt x="935" y="1081"/>
                  <a:pt x="950" y="1057"/>
                  <a:pt x="994" y="1028"/>
                </a:cubicBezTo>
                <a:cubicBezTo>
                  <a:pt x="1013" y="999"/>
                  <a:pt x="1037" y="986"/>
                  <a:pt x="1057" y="957"/>
                </a:cubicBezTo>
                <a:cubicBezTo>
                  <a:pt x="1072" y="907"/>
                  <a:pt x="1095" y="865"/>
                  <a:pt x="1110" y="815"/>
                </a:cubicBezTo>
                <a:cubicBezTo>
                  <a:pt x="1115" y="797"/>
                  <a:pt x="1127" y="762"/>
                  <a:pt x="1127" y="762"/>
                </a:cubicBezTo>
                <a:cubicBezTo>
                  <a:pt x="1124" y="703"/>
                  <a:pt x="1126" y="644"/>
                  <a:pt x="1119" y="585"/>
                </a:cubicBezTo>
                <a:cubicBezTo>
                  <a:pt x="1117" y="571"/>
                  <a:pt x="1095" y="496"/>
                  <a:pt x="1083" y="478"/>
                </a:cubicBezTo>
                <a:cubicBezTo>
                  <a:pt x="1077" y="469"/>
                  <a:pt x="1058" y="459"/>
                  <a:pt x="1065" y="452"/>
                </a:cubicBezTo>
                <a:cubicBezTo>
                  <a:pt x="1073" y="444"/>
                  <a:pt x="1083" y="463"/>
                  <a:pt x="1092" y="469"/>
                </a:cubicBezTo>
                <a:close/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unch" descr=""/>
          <p:cNvPicPr/>
          <p:nvPr/>
        </p:nvPicPr>
        <p:blipFill>
          <a:blip r:embed="rId1"/>
          <a:stretch/>
        </p:blipFill>
        <p:spPr>
          <a:xfrm>
            <a:off x="4210200" y="2209680"/>
            <a:ext cx="1809720" cy="152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38480" y="2057400"/>
            <a:ext cx="99072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352680"/>
            <a:ext cx="990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alad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20" name="aquabutton" descr=""/>
          <p:cNvPicPr/>
          <p:nvPr/>
        </p:nvPicPr>
        <p:blipFill>
          <a:blip r:embed="rId3"/>
          <a:stretch/>
        </p:blipFill>
        <p:spPr>
          <a:xfrm>
            <a:off x="4495680" y="4343400"/>
            <a:ext cx="2210040" cy="777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00200" y="1066680"/>
            <a:ext cx="6324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red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cherry" descr=""/>
          <p:cNvPicPr/>
          <p:nvPr/>
        </p:nvPicPr>
        <p:blipFill>
          <a:blip r:embed="rId4"/>
          <a:stretch/>
        </p:blipFill>
        <p:spPr>
          <a:xfrm>
            <a:off x="3352680" y="4724280"/>
            <a:ext cx="8002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2T18:03:18Z</dcterms:created>
  <dc:creator>Student</dc:creator>
  <dc:description/>
  <dc:language>en-US</dc:language>
  <cp:lastModifiedBy>Connie</cp:lastModifiedBy>
  <dcterms:modified xsi:type="dcterms:W3CDTF">1999-07-23T08:40:56Z</dcterms:modified>
  <cp:revision>4</cp:revision>
  <dc:subject/>
  <dc:title>No Slide Title</dc:title>
</cp:coreProperties>
</file>